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6912"/>
        <c:axId val="31389703"/>
      </c:barChart>
      <c:catAx>
        <c:axId val="6836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9703"/>
        <c:crosses val="autoZero"/>
        <c:auto val="1"/>
        <c:lblAlgn val="ctr"/>
        <c:lblOffset val="100"/>
        <c:noMultiLvlLbl val="0"/>
      </c:catAx>
      <c:valAx>
        <c:axId val="31389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6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29E-CC62-440D-98BE-BA5F2989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DAF-A139-43B6-ACE4-0015A6B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6B7-6CF0-4252-9A93-4BCFDE9B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59D-16FA-47C0-88C9-6366BE47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786-FC19-4EFD-836C-08F5F1F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8CF-84F0-44F1-BBF5-C93D76E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409-A072-41AA-BD71-656B6EB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E6D-A1DA-4294-BD4A-3B6A0720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461-71D1-42FB-AFD7-B6ADE3D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917-D6BA-450C-BEB3-52BC0A72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4C5-A5C8-4A76-B655-4B1220A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537-B43B-4E02-A69A-5D0DD043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B1FBB-981D-48A5-922A-205429C27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