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92240"/>
        <c:axId val="57010108"/>
      </c:barChart>
      <c:catAx>
        <c:axId val="48992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0108"/>
        <c:crosses val="autoZero"/>
        <c:auto val="1"/>
        <c:lblAlgn val="ctr"/>
        <c:lblOffset val="100"/>
        <c:noMultiLvlLbl val="0"/>
      </c:catAx>
      <c:valAx>
        <c:axId val="57010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2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42E-48C3-4985-B377-9A848099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88B-BDFE-494D-A060-22285E5E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61E-9462-45D3-BA5A-505DD815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921-5F50-4438-9816-09B76C8C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4E0-28C4-4570-A9D1-E6D381F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5D6-12D9-451C-872B-D481E69D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939-D319-4B26-85DD-AA39B620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D7D-F315-497F-B490-8199A2A8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922-F9AE-4D08-BDC6-E41BC9D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E46-B73D-4453-B7B3-0B02816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364-EF74-42E6-9704-E2CD13C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44F-BB44-42CA-BE5D-1DED8A9A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06F45-FB95-4196-976C-4DA369C20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