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21915"/>
        <c:axId val="66127420"/>
      </c:barChart>
      <c:catAx>
        <c:axId val="21621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27420"/>
        <c:crosses val="autoZero"/>
        <c:auto val="1"/>
        <c:lblAlgn val="ctr"/>
        <c:lblOffset val="100"/>
        <c:noMultiLvlLbl val="0"/>
      </c:catAx>
      <c:valAx>
        <c:axId val="66127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21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90D-877E-4B28-B6C3-BB958E30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5A5-74D1-4663-BC22-46C9D37A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CB0-87AB-4A72-B87C-C4764B35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119-A001-4C9D-864C-CE95B1DF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A02-1D0F-48DB-9A41-F3C8FC6A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7FF-353F-4DA9-8B7F-EADAA1A2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9C5-D8C6-4029-8F23-24CCD42F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4BB-6E71-4629-B2F2-757CBD9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A27-F435-4490-AF07-1B6F5705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59F-8662-4909-8C31-3F35891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C77-4B7F-4049-ACB2-8F227800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BF2-FD28-4302-BE1E-C563348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1138D-DC47-4FB6-B5B4-7923D7EC45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