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3065"/>
        <c:axId val="75409255"/>
      </c:barChart>
      <c:catAx>
        <c:axId val="82473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9255"/>
        <c:crosses val="autoZero"/>
        <c:auto val="1"/>
        <c:lblAlgn val="ctr"/>
        <c:lblOffset val="100"/>
        <c:noMultiLvlLbl val="0"/>
      </c:catAx>
      <c:valAx>
        <c:axId val="75409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3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FC1-9E1D-4D52-9AC9-4464E307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BA7-1CE8-429C-9E97-84A75D02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DAE-EEA3-431A-A90A-D121BCFC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623-B713-43A5-B947-9B5355B2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D6D-2997-4BA4-8491-6F7945F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236-9127-48DF-95B4-0F13B4AB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C2-0C88-4E7E-B374-B13A67A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2D0-10DF-45E3-9510-0B9867D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5FA-20C1-408C-8DD3-C58D6D39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C5A-0835-4209-BC4E-14B9D57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EBD-F2F8-4A54-81A7-8CADC33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AB3-AE0F-49F6-99A3-EC43505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09064-BA6E-4C97-BCC5-5E0F5DA80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