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3379"/>
        <c:axId val="58994409"/>
      </c:barChart>
      <c:catAx>
        <c:axId val="6683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94409"/>
        <c:crosses val="autoZero"/>
        <c:auto val="1"/>
        <c:lblAlgn val="ctr"/>
        <c:lblOffset val="100"/>
        <c:noMultiLvlLbl val="0"/>
      </c:catAx>
      <c:valAx>
        <c:axId val="58994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3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BA6-172A-4827-AA48-33A6DB2B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4F8-592E-4C37-BDEF-04A0DA1F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448-B038-44BF-BA5B-118AEDEE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DDB-7030-481D-8283-27A33981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444-030C-49AD-AC43-7F9ABAE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13F-4124-4F32-9226-F019BD3B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86B-A253-46B7-9DEF-9128D63B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7E0-46F1-47B3-B71E-FC24F894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7C5-F78B-4ADD-8CAC-166E2A13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F4A-5A7B-4DB5-897E-32446FE4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2D6-29DF-41DB-AAB3-EDB8E12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992-7121-49EB-AA6F-405F7AD0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3CEFC-6A2A-4988-A47A-ACAA612C48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