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508567"/>
        <c:axId val="42035981"/>
      </c:barChart>
      <c:catAx>
        <c:axId val="195085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035981"/>
        <c:crosses val="autoZero"/>
        <c:auto val="1"/>
        <c:lblAlgn val="ctr"/>
        <c:lblOffset val="100"/>
        <c:noMultiLvlLbl val="0"/>
      </c:catAx>
      <c:valAx>
        <c:axId val="420359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5085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78DC-1388-4FB7-A510-5044A759B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2A2E-2120-434B-A565-00DF35CC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B099-B7D9-4C17-AB4B-8C96A34AF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AE58-C729-48D5-9906-7A72A259B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BAAB-68B7-4A0C-B867-4184331F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BA56-DB1C-4B32-B3B0-C5062E90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6F0B-FD97-457B-A9FC-81298F40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423C-3DBB-4E8C-B8DA-43281924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C527-E57F-4053-86B8-620B3368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CBCE-961E-4424-8ABD-57A8BC03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3341-8F8D-432A-A54E-BEE862E5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34D8-8004-477E-8BB9-BFC6433D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D42650-E1A7-40C5-87BC-D27091E3A0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