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24564"/>
        <c:axId val="84472389"/>
      </c:barChart>
      <c:catAx>
        <c:axId val="40624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72389"/>
        <c:crosses val="autoZero"/>
        <c:auto val="1"/>
        <c:lblAlgn val="ctr"/>
        <c:lblOffset val="100"/>
        <c:noMultiLvlLbl val="0"/>
      </c:catAx>
      <c:valAx>
        <c:axId val="84472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4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19F-4D0C-4F49-A13C-DB6095E1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7AC-C6F6-49FF-B7B2-BB2AFB0D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3F2-6B8D-49ED-9D9D-B71F9880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9E4-054C-42CF-A130-82459171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043-EBE0-4C72-9EE6-4A63952C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9D9-E4AF-4115-B946-82F7C45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10D-0BC2-4101-84D3-E8D149F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056-8AF5-4857-BFDF-98684B3B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3A5-B01A-4AE2-AD27-BD493D39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5D3-84E7-42B8-BEC0-508F2C9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FD3-34E1-4F15-9BAC-155B324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727-C72A-4588-A099-506FD25C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F85C9-2FAC-4229-AB97-C7F350CDA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