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76582"/>
        <c:axId val="74315341"/>
      </c:barChart>
      <c:catAx>
        <c:axId val="57876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15341"/>
        <c:crosses val="autoZero"/>
        <c:auto val="1"/>
        <c:lblAlgn val="ctr"/>
        <c:lblOffset val="100"/>
        <c:noMultiLvlLbl val="0"/>
      </c:catAx>
      <c:valAx>
        <c:axId val="74315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76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918-1284-46A0-ABAE-B3F9773E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9AC-944D-43E1-908E-E8CDE57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1A8-20C9-4473-8B2A-00CBCFFB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FE6-5F9D-40C4-B78E-61511E06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6DF-B83A-4386-9DE2-C6CD54BF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373-68D7-4C2A-BF4A-3EA00C25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F1B-C2D2-4F4C-AF48-1D00F2E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E89-836F-4562-8301-F2499FCD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AA-E245-4821-AF3A-1BCFE1DA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960-29BE-4AE8-8283-7FDC747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B45-511C-4450-9799-6F74F4F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491-1771-4991-827C-86E8413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FFD68-7AF7-4537-AE39-4BA5FB17F6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