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10438"/>
        <c:axId val="25995678"/>
      </c:barChart>
      <c:catAx>
        <c:axId val="78310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5678"/>
        <c:crosses val="autoZero"/>
        <c:auto val="1"/>
        <c:lblAlgn val="ctr"/>
        <c:lblOffset val="100"/>
        <c:noMultiLvlLbl val="0"/>
      </c:catAx>
      <c:valAx>
        <c:axId val="2599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0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1B8-2B07-4330-B9FB-70569E41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A8F-0679-413D-B98E-19E8528C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BDE-17F1-4C05-92B8-C163D897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CE1-A181-4D94-BC8B-499BA28E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EFB-D8B2-4290-80FB-9A591E29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04E-EB81-4D63-AD4A-137F68E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2A5-E6AE-47D7-A455-6DE66C09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534-DB80-44B0-813D-EDE7927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325-9528-48DD-93AB-1E15B6F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87E-1502-4223-9ADE-75A4DB5D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068-9187-4A1C-A731-5D057C65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5C1-0CD8-41EE-925D-2564569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1DC67-5774-428E-B03F-EBF3DF7B9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