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74464"/>
        <c:axId val="54730636"/>
      </c:barChart>
      <c:catAx>
        <c:axId val="76874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30636"/>
        <c:crosses val="autoZero"/>
        <c:auto val="1"/>
        <c:lblAlgn val="ctr"/>
        <c:lblOffset val="100"/>
        <c:noMultiLvlLbl val="0"/>
      </c:catAx>
      <c:valAx>
        <c:axId val="54730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74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CC8-7DB5-450E-95A1-5489A006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32C-DB71-4F84-AA59-4B6B07D2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EF5-0C21-4D4E-8366-5F1F1FE5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92D-2430-4F3B-961F-C9124554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575-2659-4DF9-8F41-693336F5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1E9-0BA5-40CB-9F6A-354274D0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D13-1FA9-4696-B254-1756330A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B5B-7DFF-424F-99C1-5B9526F6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844-FCB2-428C-A662-7DB98D03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1DD-146F-4059-BD72-20B9AD81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FAE-AC35-4702-8E68-59906E17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8AA-53F4-424A-B303-BC9C768A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D3F63-2CB2-40CC-8674-583BCE9D14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