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957027"/>
        <c:axId val="89157572"/>
      </c:barChart>
      <c:catAx>
        <c:axId val="899570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57572"/>
        <c:crosses val="autoZero"/>
        <c:auto val="1"/>
        <c:lblAlgn val="ctr"/>
        <c:lblOffset val="100"/>
        <c:noMultiLvlLbl val="0"/>
      </c:catAx>
      <c:valAx>
        <c:axId val="891575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570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1472-113B-4240-A182-35B766930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BB8B-E37D-4767-87EF-CC65606B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48BD-207E-44D8-82B4-2D369728E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5E58-8E59-47F8-BEC9-95D5FEB57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AA3F-8A82-43B1-873A-86C427D5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A8DC-923D-495E-9A15-39A14369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10A6-952B-4258-856F-BAB946F4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BA0A-6FC9-4169-B735-C4979AD0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3826-3F3E-4555-BB9E-36349A69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799F-D829-49A2-8985-2236E333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B30F-F13E-4FB3-A64C-888C7DDE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2028-2FF7-4106-AACD-1AE175B6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AC418-47F5-4CBA-A5B5-10D2437A11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