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178636"/>
        <c:axId val="61119650"/>
      </c:barChart>
      <c:catAx>
        <c:axId val="771786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119650"/>
        <c:crosses val="autoZero"/>
        <c:auto val="1"/>
        <c:lblAlgn val="ctr"/>
        <c:lblOffset val="100"/>
        <c:noMultiLvlLbl val="0"/>
      </c:catAx>
      <c:valAx>
        <c:axId val="611196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1786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9E61-F78A-4787-9C49-403CE8C88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1D4B-AD45-4336-AFD9-4294F6332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30DA-E4E7-4C70-B48D-D59F0E2F3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48C6-F2CA-4DCE-9153-B97816887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EF60-FEF3-40C6-BA6A-9F2EDA27F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D5EE-F799-4878-8C04-D9A2B2FAA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DE8A-6D46-4D93-94BD-7ED700A9B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8618-F6C8-427F-8A47-951C4562F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BE39-F14E-4DFC-93C8-8C94B17F5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E9EF-2640-4DD1-8919-AB3A817E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8250-2854-4DC5-87B8-11049738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707A-09B3-44C6-88E9-5F07859D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A355ED-D4D2-4710-BE3E-D5B4D6F9E47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