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27337"/>
        <c:axId val="84858104"/>
      </c:barChart>
      <c:catAx>
        <c:axId val="42127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58104"/>
        <c:crosses val="autoZero"/>
        <c:auto val="1"/>
        <c:lblAlgn val="ctr"/>
        <c:lblOffset val="100"/>
        <c:noMultiLvlLbl val="0"/>
      </c:catAx>
      <c:valAx>
        <c:axId val="84858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27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34D-3331-475C-86EF-F0102A3E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280-C306-44AF-A0ED-EF950038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5E3-DFB1-40ED-8CB3-C6DE7762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975-EAFD-452F-806E-3021C4B3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3B9-21BF-455B-9015-9C378C5A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535-D506-4794-802D-099C25B6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06A-B30E-4C65-BCC0-3B4B5F52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3F0-AADF-4BF5-BE4B-725D264D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976-6C64-4CDE-8EA3-6687C208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8CB-11EC-4745-974A-BA5590E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6C7-1237-4ECB-8057-8C43543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E6B-56DE-49A7-83B2-FFC7686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2A4D7-C981-4337-AB1C-8F3C9004E1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