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57284"/>
        <c:axId val="6569742"/>
      </c:barChart>
      <c:catAx>
        <c:axId val="48157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9742"/>
        <c:crosses val="autoZero"/>
        <c:auto val="1"/>
        <c:lblAlgn val="ctr"/>
        <c:lblOffset val="100"/>
        <c:noMultiLvlLbl val="0"/>
      </c:catAx>
      <c:valAx>
        <c:axId val="6569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57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8B9-0EF0-4ACD-A16C-644404D8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4E9-7897-4558-AE22-2D1597A1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D2E-1CD3-476E-9C64-7EE1A5A9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0CF-FF59-4D51-86C3-BE67B816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30E-53AC-4F45-A419-7533AA00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58A-59A4-4499-ABE6-6D831DE1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2A7-304B-480E-B5F7-F7F3EC65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245-DF5A-4BD9-A880-EF3AE1F5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822-2E47-4530-9353-CB42F421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2E6-FFEA-454F-846F-6A624752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73A-3479-4598-9AAE-7AD7B2F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673-0217-4CE3-9731-CC65EC1D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2F553-056A-45E3-9A34-4560B8C110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