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26911"/>
        <c:axId val="36026896"/>
      </c:barChart>
      <c:catAx>
        <c:axId val="95826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26896"/>
        <c:crosses val="autoZero"/>
        <c:auto val="1"/>
        <c:lblAlgn val="ctr"/>
        <c:lblOffset val="100"/>
        <c:noMultiLvlLbl val="0"/>
      </c:catAx>
      <c:valAx>
        <c:axId val="36026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26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0FF-35AC-4E6B-B66E-428263C0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2FF-C4FB-4507-BB04-7C40011D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732-C200-4109-836D-8614831A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944-D933-4F94-8D20-1922628F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562-4479-428A-87AB-16B88764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DEA-211E-42E0-B201-A974E787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6F5-C36F-4C2B-AF06-DECC836D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55A-C888-461B-BFCA-5B43390B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D35-3F39-4889-BFAF-3614E330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654-914F-4715-802E-6159EF03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354-1242-44CE-886B-E9398E22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EB4-B57C-47AB-A5AF-0FEC776C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09446-DA40-4638-96C7-799A1198BF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