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9209"/>
        <c:axId val="21152234"/>
      </c:barChart>
      <c:catAx>
        <c:axId val="41392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2234"/>
        <c:crosses val="autoZero"/>
        <c:auto val="1"/>
        <c:lblAlgn val="ctr"/>
        <c:lblOffset val="100"/>
        <c:noMultiLvlLbl val="0"/>
      </c:catAx>
      <c:valAx>
        <c:axId val="21152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92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D62-9725-44B0-BA8F-D90C7F09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A0A-D4CB-4E8B-8505-1F5A8E5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BCE-A54C-4A44-A777-A8AB6218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AA2-00ED-4B2F-9E20-7573334B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E58-899D-4A19-98B7-8D65DFFD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840-8F0C-4622-B428-13B0DC96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6D7-5C08-4B1F-B69D-6417DFB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A08-C1E8-4786-AD43-E02E969D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A7F-62E5-492C-A4E2-01381CE5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AB3-7167-437B-9C08-930010A8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DD4-FC76-427E-BE70-488E2373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8EC-216F-4C63-9391-C78D55A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089F2-84B1-40AD-92AE-6FAA041F1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