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203442"/>
        <c:axId val="19153062"/>
      </c:barChart>
      <c:catAx>
        <c:axId val="842034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153062"/>
        <c:crosses val="autoZero"/>
        <c:auto val="1"/>
        <c:lblAlgn val="ctr"/>
        <c:lblOffset val="100"/>
        <c:noMultiLvlLbl val="0"/>
      </c:catAx>
      <c:valAx>
        <c:axId val="191530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2034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6880-1920-413D-976D-53AAE149B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FF3E-CC8D-4EC6-BEF7-FDEB357D8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8B7C-D80E-44B4-B527-FDDB31C8F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D0DD-59D8-4D44-8793-8C82D6884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F40E-AF38-4095-8361-ACA695B53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9A21-4E40-47B4-987E-65315611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E7A7-97D4-48AD-882F-B5D653B4A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2224-A991-47D8-BC01-57EC04B6A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6C04-699C-49DF-AD50-F57DB580F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1391-7A2D-45E9-B6C7-B015A2BE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6139-0D63-4A0E-80D1-FE773BB6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CF45-4082-4A41-9FB4-AC73039B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34DFEB-5C4B-4AD8-95B5-7BCCA00AF4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