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150895"/>
        <c:axId val="56959476"/>
      </c:barChart>
      <c:catAx>
        <c:axId val="981508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959476"/>
        <c:crosses val="autoZero"/>
        <c:auto val="1"/>
        <c:lblAlgn val="ctr"/>
        <c:lblOffset val="100"/>
        <c:noMultiLvlLbl val="0"/>
      </c:catAx>
      <c:valAx>
        <c:axId val="569594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1508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6D1B-3749-42C5-BE52-F883A5670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BC8C-88F4-443A-B7E5-0A7DC89AE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34A2-61C1-40DC-8B14-6B21E138D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47ED-E5CA-4EB1-AD5C-A905FD623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EA0A-8EED-4453-86F7-0FEAA26B1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DE1C-B449-421C-8CBC-99578E0CB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306C-10C9-4920-9D2F-E5F70A95B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9950-EC6B-4681-A637-AA0DC831F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8D92-F700-4744-B286-129338C06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AEB1-BC81-49D5-BAB4-A615CC441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7331-2077-4F48-98D9-3AC27EFEB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F567-373C-4924-B553-14E957690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3A7170-CFEA-436B-9C7E-1ED3092F94C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