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04221"/>
        <c:axId val="16757763"/>
      </c:barChart>
      <c:catAx>
        <c:axId val="97304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57763"/>
        <c:crosses val="autoZero"/>
        <c:auto val="1"/>
        <c:lblAlgn val="ctr"/>
        <c:lblOffset val="100"/>
        <c:noMultiLvlLbl val="0"/>
      </c:catAx>
      <c:valAx>
        <c:axId val="16757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04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603-9197-497F-A941-DAACFF7B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5C1-8779-4CBD-8A97-D522AF8F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31C-6C90-4618-A390-161C5386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FE1-1DBD-4413-84E0-3FD606EA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017-0089-430D-BFC8-C27F3D49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214-86C0-4331-A722-29D7DBA7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1B4-85E6-42D9-A127-7891D7CA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A5B-A1D2-4537-B193-22C778DA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C88-94F1-4526-90AA-7A212C9B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625-9170-47F4-98E3-D341567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B76-43AF-4C4A-AD70-91B47916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8C6-1865-4125-9895-39FA088A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FB84A-72D3-4407-87D5-7D2E9FD4E3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