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65966"/>
        <c:axId val="58298363"/>
      </c:barChart>
      <c:catAx>
        <c:axId val="99765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98363"/>
        <c:crosses val="autoZero"/>
        <c:auto val="1"/>
        <c:lblAlgn val="ctr"/>
        <c:lblOffset val="100"/>
        <c:noMultiLvlLbl val="0"/>
      </c:catAx>
      <c:valAx>
        <c:axId val="58298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65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597-522C-40A8-A08B-1F98AD15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4FF-933E-4CB7-913A-574006E1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D8B-157B-4C7D-91B6-AA21D21C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59A-5F66-4AD2-ACEB-687B1535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4FB-62A2-45D1-8EB0-19FD4F57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460-762A-4514-88D5-9D3F748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8A5-1268-451E-87C7-8639E8B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D82-BEC2-483C-9A9B-F6F520B5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21C-ECC0-4120-8D8C-0589FD96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8E5-AFA7-4F03-89E7-CFB45C68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DE4-A21E-4C52-9A41-FB64D60B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621-964C-42BD-8948-DE694ED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9FCB2-3D96-421E-9124-0419895CB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