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87746"/>
        <c:axId val="53441780"/>
      </c:barChart>
      <c:catAx>
        <c:axId val="53887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41780"/>
        <c:crosses val="autoZero"/>
        <c:auto val="1"/>
        <c:lblAlgn val="ctr"/>
        <c:lblOffset val="100"/>
        <c:noMultiLvlLbl val="0"/>
      </c:catAx>
      <c:valAx>
        <c:axId val="53441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7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E3D-03C4-45A4-9273-53024189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6B8-A40C-47A2-B4ED-E7799E60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227-3DC8-4234-B617-129368EF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480-DEEB-47C3-994F-5B28C5B9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2E6-22B1-43F2-BD8F-85CBA2E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22D-AA28-474C-9C48-B9E9183E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FBC-A2A3-4781-8624-F855824E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1BC-AD2D-40DE-9BF3-26850EF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93F-2FCA-4A84-8A97-B11FC3B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11A-93D8-4815-AB50-D875CB58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FEF-A51F-465B-8442-EB6CE10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0BE-C404-4CAB-89B9-63BE36F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11D75-F3F8-45CB-8A3B-C72F9E87F0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