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7855"/>
        <c:axId val="21177900"/>
      </c:barChart>
      <c:catAx>
        <c:axId val="4867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77900"/>
        <c:crosses val="autoZero"/>
        <c:auto val="1"/>
        <c:lblAlgn val="ctr"/>
        <c:lblOffset val="100"/>
        <c:noMultiLvlLbl val="0"/>
      </c:catAx>
      <c:valAx>
        <c:axId val="21177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7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595-4B7C-431D-98BF-BDE274A2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82E-B08E-4603-B613-04100522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7F0-F04A-4A07-B38C-2DD96E60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886-0CE8-4C93-BF73-00E435E5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2A5-61FC-4830-8681-AE76B645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6EA-B4C2-49A3-9C9B-93DB456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7E1-D2F2-42EF-B181-00A6269E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99A-5598-400A-A813-D64EF8EF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25C-D4C7-4795-A3B0-4339711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CF3-BAD5-4AEC-B590-246F0A41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A59-0034-483D-AE2D-60BD1977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F6A-B26C-4A16-BDD9-A01D49A9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BDB9-0102-46DE-B30E-E6585302D0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